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9D4E-49EB-4BB3-A313-A806353C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DC33-9015-4237-B230-DA851BB4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631C-1CC6-434E-A62A-27D752BE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C8F4-86E6-4784-AD1C-5786CCE3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4024-245D-4476-89CD-D8DC6762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6F07-966D-44A9-AE81-A496C2F8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57E6-4160-4985-A126-3EAC7FED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E0FD-96F0-4A69-A80C-19B4248A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40F-CEB4-4692-83CA-8A6D1722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95C4-C7FB-4A45-9609-D4390884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0228-F994-4328-9CFF-F2CA9847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93C8-1706-4A8F-8452-266690E8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F143-EF41-4394-91FA-D385E62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AAF3-E804-4CE2-9A39-E8F5AEA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FD98-4E8D-4508-86BE-22429DC0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B132-AD75-46F5-98F2-3BA0C3D6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A650-8A6E-4B02-9CBA-510B6643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5941-BABE-4287-8C2A-A091037C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4F14-5606-4EB3-B972-40E70CFB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8E46-37F8-4175-95A8-ECD9BDC5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572D-A6E0-47FE-A2A9-28F2F850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0953-92F6-44E3-9CE8-C1F52A91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5EB3-F49E-4F41-807D-54A32E18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1B6F-1D0C-4672-92D1-D393FB1D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438F-479C-4990-BD28-9333770B02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929A-5930-41C4-A1A8-6A27E81CE5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cArthur_Manil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14.2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  The Early Battles:  War in the Pacific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fighting in the Pacific was done over wa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. Stopping the Germa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North Africa: Operation To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   Stalin wanted Allies to invade France first so Hitler would have to split his 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urchill and FDR launch O.T. instead; not ready; Stalin up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964040" y="2286000"/>
            <a:ext cx="4179960" cy="45720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Photograph, The Supreme Allied Commander at 8th Infantry Division headquarters in Belgium, November 1944."/>
          <p:cNvPicPr/>
          <p:nvPr/>
        </p:nvPicPr>
        <p:blipFill>
          <a:blip r:embed="rId2"/>
          <a:stretch/>
        </p:blipFill>
        <p:spPr>
          <a:xfrm>
            <a:off x="6902280" y="0"/>
            <a:ext cx="2241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2.  Battle of the Atlanti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 7 mos of attack by wolf packs along US east coast = 681 Allied ships           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*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voy syst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onar and radar help turn tide for U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  Building rate for ships increase to 140/month from 100/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imes New Roman"/>
              </a:rPr>
              <a:t>3.  Battle of Stalingrad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.   Invasion of Stalingrad due to Germans needing oil and indust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.  Started in summer; thought it would be an easy inva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.   Fighting endured for months and into w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.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ermans on defensive; were not allowed to retreat; eventually surrendered; never recov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-36360" y="1092240"/>
            <a:ext cx="9144000" cy="360"/>
          </a:xfrm>
          <a:prstGeom prst="rect">
            <a:avLst/>
          </a:prstGeom>
          <a:solidFill>
            <a:srgbClr val="e4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0920" bIns="-7092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-36360" y="1092240"/>
            <a:ext cx="9144000" cy="360"/>
            <a:chOff x="-36360" y="1092240"/>
            <a:chExt cx="9144000" cy="360"/>
          </a:xfrm>
        </p:grpSpPr>
        <p:sp>
          <p:nvSpPr>
            <p:cNvPr id="560" name=""/>
            <p:cNvSpPr/>
            <p:nvPr/>
          </p:nvSpPr>
          <p:spPr>
            <a:xfrm>
              <a:off x="-36360" y="1092240"/>
              <a:ext cx="9144000" cy="360"/>
            </a:xfrm>
            <a:prstGeom prst="rect">
              <a:avLst/>
            </a:prstGeom>
            <a:solidFill>
              <a:srgbClr val="e4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-36360" y="1092240"/>
              <a:ext cx="9144000" cy="360"/>
              <a:chOff x="-36360" y="1092240"/>
              <a:chExt cx="9144000" cy="360"/>
            </a:xfrm>
          </p:grpSpPr>
          <p:sp>
            <p:nvSpPr>
              <p:cNvPr id="562" name="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solidFill>
                <a:srgbClr val="e4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438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dfdef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llies Stem the Japanese Tide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Japan and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MacArth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diers in Philippines getting killed/wo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 abandons soldiers/promises to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taan 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,000 POW/10,000 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05520" y="83772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219320"/>
            <a:ext cx="299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5077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Death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File:March of Death from Bataan to the prison camp - Dead soldiers.jpg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File:NA 127-N-114541.jpg"/>
          <p:cNvPicPr/>
          <p:nvPr/>
        </p:nvPicPr>
        <p:blipFill>
          <a:blip r:embed="rId1"/>
          <a:stretch/>
        </p:blipFill>
        <p:spPr>
          <a:xfrm>
            <a:off x="228600" y="-14400"/>
            <a:ext cx="86104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Battle at Coral Sea – New Naval warfare (n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ghting done by carrier-based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des deciphered = US better prep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attle, Alllies able to turn back Japan; invasion of Australia stopped (cut US suppl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Image:Principe-de-Asturias Wasp Forrestal Invincible 1991 DN-ST-92-01129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ces of Confli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28600" y="887400"/>
            <a:ext cx="87631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attle of Midway: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“payback” for P.H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by Adm. Nim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Japan to attack; 110 ship; goal: destroy US fl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rom Midway to Hawaii to ma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outnumbered 4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– massive air attack; Japan 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Japan never re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0160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midway4.jpg (18990 bytes)"/>
          <p:cNvPicPr/>
          <p:nvPr/>
        </p:nvPicPr>
        <p:blipFill>
          <a:blip r:embed="rId1"/>
          <a:stretch/>
        </p:blipFill>
        <p:spPr>
          <a:xfrm>
            <a:off x="4495680" y="3733920"/>
            <a:ext cx="4648320" cy="26114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494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wpe6.jpg (51006 bytes)"/>
          <p:cNvPicPr/>
          <p:nvPr/>
        </p:nvPicPr>
        <p:blipFill>
          <a:blip r:embed="rId2"/>
          <a:stretch/>
        </p:blipFill>
        <p:spPr>
          <a:xfrm>
            <a:off x="4800600" y="685800"/>
            <a:ext cx="4098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14T20:56:1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